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DF1F0-5F09-4078-9D83-D10DD72B8F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95CC8-D5B9-454C-B3E2-0C874C5A49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1B3A0-B24B-4E86-B761-BFA1DE6CDD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6775D-C13F-49F9-BC7A-3CFEFC8221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80579-5956-4F71-97D6-20A4F62D30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591-41AC-40CA-B098-3D956A1A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3EC-8A01-4B41-9595-6A750512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752-DF64-490B-AB38-A94171B4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690-4031-4202-BF3B-74D562D8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DD7-D825-408F-904B-E2D02B21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745-09FD-476A-9062-6E7C0405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08B-0CF4-4419-B196-E56290AE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0BF-94C0-4FDE-AA81-E811B8E3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D97-33E5-496C-806C-DF59CE44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8E6-999D-458C-99A6-79608C00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315-46DF-401D-964E-C2B28EA6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6C5-0B1D-44D3-8654-A28CF5DD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85C68-CFFD-4D63-B9FC-E566709A60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31600" y="2103480"/>
            <a:ext cx="492336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The First Noe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96960" y="880920"/>
            <a:ext cx="87631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First Noel, the Angels did 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as to certain poor shepherds in fields as they 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fields where they lay keeping their sh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n a cold winter's night that was so de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Noel, Noel, Noel, No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orn is the King of Israe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96960" y="880920"/>
            <a:ext cx="876312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They looked up and saw a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Shining in the East beyond them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And to the earth it gave great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And so it continued both day and n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Noel, Noel, Noel, No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Born is the King of Israe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96960" y="880920"/>
            <a:ext cx="876312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This star drew nigh to the north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O'er Bethlehem it took its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And there it did both stop and st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Right o'er the place where Jesus 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Noel, Noel, Noel, No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Born is the King of Israe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wade</dc:creator>
  <dc:description/>
  <dc:language>en-US</dc:language>
  <cp:lastModifiedBy>pcwade</cp:lastModifiedBy>
  <dcterms:modified xsi:type="dcterms:W3CDTF">2016-12-09T08:09:13Z</dcterms:modified>
  <cp:revision>28</cp:revision>
  <dc:subject/>
  <dc:title>Slide 1</dc:title>
</cp:coreProperties>
</file>